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wmf" ContentType="image/x-wmf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31.png" ContentType="image/png"/>
  <Override PartName="/ppt/media/image14.wmf" ContentType="image/x-wmf"/>
  <Override PartName="/ppt/media/image34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7.wmf" ContentType="image/x-wmf"/>
  <Override PartName="/ppt/media/image5.jpeg" ContentType="image/jpeg"/>
  <Override PartName="/ppt/media/image13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4dcfa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D9A2-655F-43D8-A598-BF4C2243E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DE30-2BD4-4204-BBA8-98D6279229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C179-B38C-40C7-B3A4-ADC15C2C93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результатов эксперимента (по Чечель И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407-DC66-439F-8385-7DE057F3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8F9-4100-4958-AED4-297A92F9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5A3-E342-49E0-899B-64531254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A20-2F02-445B-AFDC-09324930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A64-A6EA-4616-A221-50DCD9CE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C20-51D4-4814-970B-B7FCAE90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DEB-C0F1-446A-9E5D-3601C22D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046-53E6-47EC-8A60-6884ECCD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9CF-E933-4B31-A8F1-1F8B4CF0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C45-0858-436D-A9BC-863C4A8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B8A-43EA-4860-A85F-0D8579B2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619-E62C-4CC6-9E35-1C89509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4dcfa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9550-1888-4AC5-B4C0-524D33331F1E}" type="slidenum">
              <a:rPr b="0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75760" y="23760"/>
            <a:ext cx="88678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adf3"/>
                </a:solidFill>
                <a:latin typeface="Georgia"/>
              </a:rPr>
              <a:t>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adf3"/>
                </a:solidFill>
                <a:latin typeface="Georgia"/>
              </a:rPr>
              <a:t>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fadf3"/>
                </a:solidFill>
                <a:latin typeface="Georgia"/>
              </a:rPr>
              <a:t>  </a:t>
            </a:r>
            <a:r>
              <a:rPr b="1" lang="ru-RU" sz="3200" spc="-1" strike="noStrike">
                <a:solidFill>
                  <a:srgbClr val="4fadf3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«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Формирование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универсальных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учебных действий 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 образовательном пространстве начальной школы в условиях внедрения ФГОС НОО»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250920" y="216000"/>
            <a:ext cx="2376360" cy="936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2644920" y="4273560"/>
            <a:ext cx="365580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95280" y="69228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Личностные универсальные действия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395280" y="1278000"/>
            <a:ext cx="842472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Позволяют сделать учение осмысленным, обеспечивают ученику значимость решения учебных задач, увязывая их           с реальными жизненными целями и ситуациями.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Направлены на осознание, исследование и принятие жизненных ценностей и смыслов, позволяют сориентироваться в нравственных нормах, правилах, оценках, выработать свою жизненную позицию в отношении мира, людей, самого себя и своего будущего.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7647120" y="1746360"/>
            <a:ext cx="126360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4"/>
          <p:cNvSpPr/>
          <p:nvPr/>
        </p:nvSpPr>
        <p:spPr>
          <a:xfrm>
            <a:off x="2467080" y="2565360"/>
            <a:ext cx="3498840" cy="1531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Познавательные УУД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68360" y="404640"/>
            <a:ext cx="3587760" cy="15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обще-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учебные, включая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специально-предметные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действия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219640" y="404640"/>
            <a:ext cx="3486240" cy="15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логические, включая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знаково-символические 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действия</a:t>
            </a:r>
            <a:r>
              <a:rPr b="1" lang="en-US" sz="2000" spc="-1" strike="noStrike">
                <a:solidFill>
                  <a:srgbClr val="9933ff"/>
                </a:solidFill>
                <a:latin typeface="Century Schoolbook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916360" y="5229360"/>
            <a:ext cx="3049560" cy="1079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постановка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и решение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проблем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971640" y="2035080"/>
            <a:ext cx="1944720" cy="1296720"/>
            <a:chOff x="971640" y="2035080"/>
            <a:chExt cx="1944720" cy="1296720"/>
          </a:xfrm>
        </p:grpSpPr>
        <p:sp>
          <p:nvSpPr>
            <p:cNvPr id="132" name="Freeform 10"/>
            <p:cNvSpPr/>
            <p:nvPr/>
          </p:nvSpPr>
          <p:spPr>
            <a:xfrm>
              <a:off x="972720" y="2039040"/>
              <a:ext cx="1125360" cy="8521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33" name="Freeform 11"/>
            <p:cNvSpPr/>
            <p:nvPr/>
          </p:nvSpPr>
          <p:spPr>
            <a:xfrm>
              <a:off x="2333520" y="2723040"/>
              <a:ext cx="582840" cy="6087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34" name="Freeform 12"/>
            <p:cNvSpPr/>
            <p:nvPr/>
          </p:nvSpPr>
          <p:spPr>
            <a:xfrm>
              <a:off x="1634760" y="2951640"/>
              <a:ext cx="696240" cy="3790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35" name="Freeform 13"/>
            <p:cNvSpPr/>
            <p:nvPr/>
          </p:nvSpPr>
          <p:spPr>
            <a:xfrm>
              <a:off x="971640" y="2035080"/>
              <a:ext cx="1944720" cy="1155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6139080" y="1803240"/>
            <a:ext cx="1642680" cy="2148120"/>
            <a:chOff x="6139080" y="1803240"/>
            <a:chExt cx="1642680" cy="2148120"/>
          </a:xfrm>
        </p:grpSpPr>
        <p:sp>
          <p:nvSpPr>
            <p:cNvPr id="137" name="Freeform 15"/>
            <p:cNvSpPr/>
            <p:nvPr/>
          </p:nvSpPr>
          <p:spPr>
            <a:xfrm rot="5400000">
              <a:off x="6615360" y="1886400"/>
              <a:ext cx="1243080" cy="10792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38" name="Freeform 16"/>
            <p:cNvSpPr/>
            <p:nvPr/>
          </p:nvSpPr>
          <p:spPr>
            <a:xfrm rot="5400000">
              <a:off x="6202800" y="3243240"/>
              <a:ext cx="643680" cy="7714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 rot="5400000">
              <a:off x="5995800" y="2680200"/>
              <a:ext cx="769320" cy="48024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40" name="Freeform 18"/>
            <p:cNvSpPr/>
            <p:nvPr/>
          </p:nvSpPr>
          <p:spPr>
            <a:xfrm rot="5400000">
              <a:off x="5976000" y="2145600"/>
              <a:ext cx="2148120" cy="14634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</p:grpSp>
      <p:grpSp>
        <p:nvGrpSpPr>
          <p:cNvPr id="141" name="Group 19"/>
          <p:cNvGrpSpPr/>
          <p:nvPr/>
        </p:nvGrpSpPr>
        <p:grpSpPr>
          <a:xfrm>
            <a:off x="3579840" y="3897720"/>
            <a:ext cx="1904040" cy="1444680"/>
            <a:chOff x="3579840" y="3897720"/>
            <a:chExt cx="1904040" cy="1444680"/>
          </a:xfrm>
        </p:grpSpPr>
        <p:sp>
          <p:nvSpPr>
            <p:cNvPr id="142" name="Freeform 20"/>
            <p:cNvSpPr/>
            <p:nvPr/>
          </p:nvSpPr>
          <p:spPr>
            <a:xfrm rot="11936400">
              <a:off x="4340880" y="4579560"/>
              <a:ext cx="999360" cy="6141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43" name="Freeform 21"/>
            <p:cNvSpPr/>
            <p:nvPr/>
          </p:nvSpPr>
          <p:spPr>
            <a:xfrm rot="11936400">
              <a:off x="3797640" y="3969720"/>
              <a:ext cx="517680" cy="43884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 rot="11936400">
              <a:off x="4313160" y="4160160"/>
              <a:ext cx="618480" cy="27324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45" name="Freeform 23"/>
            <p:cNvSpPr/>
            <p:nvPr/>
          </p:nvSpPr>
          <p:spPr>
            <a:xfrm rot="11936400">
              <a:off x="3668040" y="4251600"/>
              <a:ext cx="1727280" cy="8326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</p:grpSp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6138720" y="4102200"/>
            <a:ext cx="2671920" cy="17762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"/>
          <p:cNvPicPr/>
          <p:nvPr/>
        </p:nvPicPr>
        <p:blipFill>
          <a:blip r:embed="rId2"/>
          <a:stretch/>
        </p:blipFill>
        <p:spPr>
          <a:xfrm>
            <a:off x="336600" y="4213080"/>
            <a:ext cx="244800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3"/>
          <p:cNvSpPr/>
          <p:nvPr/>
        </p:nvSpPr>
        <p:spPr>
          <a:xfrm>
            <a:off x="539640" y="11970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ключают действия исследования, поиска и отбора необходимой информации, ее структурирования;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ирования изучаемого содержания, логические действия и операции, способы решения задач.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900000" y="4269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entury Schoolbook"/>
              </a:rPr>
              <a:t>Познавательные действия</a:t>
            </a:r>
            <a:endParaRPr b="1" lang="en-US" sz="4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50" name="Рисунок 5" descr=""/>
          <p:cNvPicPr/>
          <p:nvPr/>
        </p:nvPicPr>
        <p:blipFill>
          <a:blip r:embed="rId1"/>
          <a:stretch/>
        </p:blipFill>
        <p:spPr>
          <a:xfrm>
            <a:off x="1042920" y="4754520"/>
            <a:ext cx="3024360" cy="19922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6" descr=""/>
          <p:cNvPicPr/>
          <p:nvPr/>
        </p:nvPicPr>
        <p:blipFill>
          <a:blip r:embed="rId2"/>
          <a:stretch/>
        </p:blipFill>
        <p:spPr>
          <a:xfrm>
            <a:off x="6732720" y="46782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900000" y="990720"/>
            <a:ext cx="4464000" cy="25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Регулятив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ниверсаль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чеб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ейств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284720" y="227664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5508720" y="692280"/>
            <a:ext cx="266364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Целеполагание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5435640" y="2565360"/>
            <a:ext cx="25210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Планирование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5435640" y="4724280"/>
            <a:ext cx="273672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Контроль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780000" y="3551400"/>
            <a:ext cx="306036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Прогнозирование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843280" y="5661000"/>
            <a:ext cx="2376360" cy="720720"/>
          </a:xfrm>
          <a:prstGeom prst="rect">
            <a:avLst/>
          </a:prstGeom>
          <a:solidFill>
            <a:srgbClr val="e7e7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Коррекция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55640" y="3716280"/>
            <a:ext cx="266400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Волевая 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саморегуляция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79280" y="5661000"/>
            <a:ext cx="2160720" cy="720720"/>
          </a:xfrm>
          <a:prstGeom prst="rect">
            <a:avLst/>
          </a:prstGeom>
          <a:solidFill>
            <a:srgbClr val="e7e7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Оценка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631800" y="404640"/>
            <a:ext cx="63691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entury Schoolbook"/>
              </a:rPr>
              <a:t>   </a:t>
            </a:r>
            <a:r>
              <a:rPr b="0" lang="ru-RU" sz="4800" spc="-1" strike="noStrike">
                <a:solidFill>
                  <a:srgbClr val="009900"/>
                </a:solidFill>
                <a:latin typeface="Century Schoolbook"/>
              </a:rPr>
              <a:t>Регулятивные действия                             </a:t>
            </a:r>
            <a:endParaRPr b="1" lang="en-US" sz="48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Century Schoolbook"/>
              </a:rPr>
              <a:t>Обеспечивают возможность    управления познавательной                              и учебной деятельностью                    посредством постановки целей, планирования, контроля,                               коррекции своих действий                           и оценки успешности                                 усвоения 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198612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8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Georgia"/>
              </a:rPr>
              <a:t>Коммуникативные УУД</a:t>
            </a: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419640" y="2276640"/>
            <a:ext cx="2087280" cy="1800000"/>
          </a:xfrm>
          <a:prstGeom prst="rect">
            <a:avLst/>
          </a:prstGeom>
          <a:ln w="0">
            <a:noFill/>
          </a:ln>
        </p:spPr>
      </p:pic>
      <p:sp>
        <p:nvSpPr>
          <p:cNvPr id="165" name="Oval 4"/>
          <p:cNvSpPr/>
          <p:nvPr/>
        </p:nvSpPr>
        <p:spPr>
          <a:xfrm>
            <a:off x="468360" y="1484280"/>
            <a:ext cx="2663640" cy="1440000"/>
          </a:xfrm>
          <a:prstGeom prst="ellipse">
            <a:avLst/>
          </a:prstGeom>
          <a:solidFill>
            <a:srgbClr val="4e67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ланирование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учебного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сотрудничества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6372360" y="1484280"/>
            <a:ext cx="2232000" cy="1297080"/>
          </a:xfrm>
          <a:prstGeom prst="ellipse">
            <a:avLst/>
          </a:prstGeom>
          <a:solidFill>
            <a:srgbClr val="4e67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остановка 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вопросов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95280" y="5084640"/>
            <a:ext cx="2521080" cy="1297080"/>
          </a:xfrm>
          <a:prstGeom prst="ellipse">
            <a:avLst/>
          </a:prstGeom>
          <a:solidFill>
            <a:srgbClr val="4e67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остроение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речевых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высказываний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6084720" y="5013360"/>
            <a:ext cx="2735280" cy="12747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Лидерство и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согласование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действий с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артнером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794880" y="2637360"/>
            <a:ext cx="2913480" cy="1534320"/>
            <a:chOff x="794880" y="2637360"/>
            <a:chExt cx="2913480" cy="1534320"/>
          </a:xfrm>
        </p:grpSpPr>
        <p:sp>
          <p:nvSpPr>
            <p:cNvPr id="170" name="Freeform 9"/>
            <p:cNvSpPr/>
            <p:nvPr/>
          </p:nvSpPr>
          <p:spPr>
            <a:xfrm rot="390600">
              <a:off x="868680" y="2730240"/>
              <a:ext cx="1625040" cy="80424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 rot="390600">
              <a:off x="2763000" y="3551040"/>
              <a:ext cx="841320" cy="5745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 rot="390600">
              <a:off x="1747800" y="3660840"/>
              <a:ext cx="1005480" cy="35784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 rot="390600">
              <a:off x="847440" y="2792880"/>
              <a:ext cx="2808000" cy="10900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5412960" y="2504880"/>
            <a:ext cx="2032920" cy="1737000"/>
            <a:chOff x="5412960" y="2504880"/>
            <a:chExt cx="2032920" cy="1737000"/>
          </a:xfrm>
        </p:grpSpPr>
        <p:sp>
          <p:nvSpPr>
            <p:cNvPr id="175" name="Freeform 14"/>
            <p:cNvSpPr/>
            <p:nvPr/>
          </p:nvSpPr>
          <p:spPr>
            <a:xfrm rot="4821600">
              <a:off x="6235920" y="2396520"/>
              <a:ext cx="832320" cy="12502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 rot="4821600">
              <a:off x="5758560" y="3507840"/>
              <a:ext cx="430920" cy="8935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 rot="4821600">
              <a:off x="5472720" y="3235680"/>
              <a:ext cx="514800" cy="5562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 rot="4821600">
              <a:off x="5770440" y="2508120"/>
              <a:ext cx="1438200" cy="1695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3722760" y="3902040"/>
            <a:ext cx="2771640" cy="2185560"/>
            <a:chOff x="3722760" y="3902040"/>
            <a:chExt cx="2771640" cy="2185560"/>
          </a:xfrm>
        </p:grpSpPr>
        <p:sp>
          <p:nvSpPr>
            <p:cNvPr id="180" name="Freeform 19"/>
            <p:cNvSpPr/>
            <p:nvPr/>
          </p:nvSpPr>
          <p:spPr>
            <a:xfrm rot="9519000">
              <a:off x="4986000" y="4458240"/>
              <a:ext cx="1359720" cy="10533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 rot="9519000">
              <a:off x="3835440" y="4440240"/>
              <a:ext cx="704160" cy="7527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 rot="9519000">
              <a:off x="4437720" y="4169520"/>
              <a:ext cx="841320" cy="4687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 rot="9519000">
              <a:off x="3965040" y="4280760"/>
              <a:ext cx="2349720" cy="14281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1665000" y="3904920"/>
            <a:ext cx="2216160" cy="1492560"/>
            <a:chOff x="1665000" y="3904920"/>
            <a:chExt cx="2216160" cy="1492560"/>
          </a:xfrm>
        </p:grpSpPr>
        <p:sp>
          <p:nvSpPr>
            <p:cNvPr id="185" name="Freeform 25"/>
            <p:cNvSpPr/>
            <p:nvPr/>
          </p:nvSpPr>
          <p:spPr>
            <a:xfrm rot="15354000">
              <a:off x="2229840" y="4246200"/>
              <a:ext cx="582120" cy="13935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 rot="15354000">
              <a:off x="3124800" y="3674520"/>
              <a:ext cx="301320" cy="9957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 rot="15354000">
              <a:off x="3356280" y="4138920"/>
              <a:ext cx="360360" cy="6199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 rot="15354000">
              <a:off x="2200320" y="3734640"/>
              <a:ext cx="1006200" cy="18892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Georgia"/>
              </a:rPr>
              <a:t>Коммуникативные действия</a:t>
            </a:r>
            <a:endParaRPr b="0" lang="en-US" sz="44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беспечивают возможности сотрудничества – умение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слышать, слушать и понимать партнера, планировать и согласованно выполнять совместную деятельность, распределять роли, взаимно контролировать действия друг друга, уметь договариваться, вести дискуссию, правильно выражать свои мысли в речи, уважать в общении и сотрудничества партнера и самого себя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91" name="Picture 4" descr="j0343363[1]"/>
          <p:cNvPicPr/>
          <p:nvPr/>
        </p:nvPicPr>
        <p:blipFill>
          <a:blip r:embed="rId1"/>
          <a:stretch/>
        </p:blipFill>
        <p:spPr>
          <a:xfrm>
            <a:off x="6875640" y="765000"/>
            <a:ext cx="226836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79280" y="981000"/>
          <a:ext cx="8753760" cy="5426280"/>
        </p:xfrm>
        <a:graphic>
          <a:graphicData uri="http://schemas.openxmlformats.org/drawingml/2006/table">
            <a:tbl>
              <a:tblPr/>
              <a:tblGrid>
                <a:gridCol w="1768680"/>
                <a:gridCol w="1727280"/>
                <a:gridCol w="1800000"/>
                <a:gridCol w="1657440"/>
                <a:gridCol w="1800360"/>
              </a:tblGrid>
              <a:tr h="638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Смысловые акценты УУД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Русский язык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Литературное чтени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Математика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Окружающий мир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личностны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жизненное самоопределени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нравственно-этическая ориентация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смыслообразовани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нравственно-этическая ориентация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регулятивны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целеполагание, планирование, прогнозирование, контроль, коррекция, оценка, алгоритмизация действий (Математика, Русский язык, Окружающий мир, Технология, Физическая культура и др.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познавательные общеучебны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моделирование (перевод устной речи в письменную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смысловое чтение, произвольные и осознанные устные и письменные высказывания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моделирование, выбор наиболее эффективных способов решения задач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широкий спектр источников информаци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познавательные логически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формулирование личных, языковых, нравственных проблем; самостоятельное создание способов решения проблем поискового и творческого характера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анализ, синтез, сравнение, группировка, причинно-следственные связи, логические рассуждения, доказательства, практические действия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коммуникатив-ны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2b2eb"/>
                          </a:solidFill>
                          <a:latin typeface="Arial"/>
                        </a:rPr>
                        <a:t>использование средств языка и речи для получения и передачи информации, участие в продуктивном диалоге; самовыражение: монологические высказывания разного типа, презентация творческих продуктов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82"/>
          <p:cNvSpPr/>
          <p:nvPr/>
        </p:nvSpPr>
        <p:spPr>
          <a:xfrm>
            <a:off x="32400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правленность учебных предметов на развитие УУД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75"/>
          <p:cNvSpPr/>
          <p:nvPr/>
        </p:nvSpPr>
        <p:spPr>
          <a:xfrm>
            <a:off x="1214280" y="285840"/>
            <a:ext cx="6429600" cy="58100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95" name="Схема 13" descr=""/>
          <p:cNvPicPr/>
          <p:nvPr/>
        </p:nvPicPr>
        <p:blipFill>
          <a:blip r:embed="rId1"/>
          <a:stretch/>
        </p:blipFill>
        <p:spPr>
          <a:xfrm>
            <a:off x="208080" y="353880"/>
            <a:ext cx="8942400" cy="5722920"/>
          </a:xfrm>
          <a:prstGeom prst="rect">
            <a:avLst/>
          </a:prstGeom>
          <a:ln w="0">
            <a:noFill/>
          </a:ln>
        </p:spPr>
      </p:pic>
      <p:sp>
        <p:nvSpPr>
          <p:cNvPr id="196" name="Скругленная прямоугольная выноска 19"/>
          <p:cNvSpPr/>
          <p:nvPr/>
        </p:nvSpPr>
        <p:spPr>
          <a:xfrm>
            <a:off x="214200" y="428760"/>
            <a:ext cx="2214720" cy="826920"/>
          </a:xfrm>
          <a:prstGeom prst="wedgeRoundRectCallout">
            <a:avLst>
              <a:gd name="adj1" fmla="val 62500"/>
              <a:gd name="adj2" fmla="val 110472"/>
              <a:gd name="adj3" fmla="val 16667"/>
            </a:avLst>
          </a:prstGeom>
          <a:solidFill>
            <a:srgbClr val="4e67c8"/>
          </a:solidFill>
          <a:ln w="1908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Урочная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97" name="Скругленная прямоугольная выноска 20"/>
          <p:cNvSpPr/>
          <p:nvPr/>
        </p:nvSpPr>
        <p:spPr>
          <a:xfrm>
            <a:off x="6516720" y="571680"/>
            <a:ext cx="2427120" cy="898200"/>
          </a:xfrm>
          <a:prstGeom prst="wedgeRoundRectCallout">
            <a:avLst>
              <a:gd name="adj1" fmla="val -88819"/>
              <a:gd name="adj2" fmla="val 54824"/>
              <a:gd name="adj3" fmla="val 16667"/>
            </a:avLst>
          </a:prstGeom>
          <a:solidFill>
            <a:srgbClr val="4e67c8"/>
          </a:solidFill>
          <a:ln w="1908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неурочная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98" name="Скругленная прямоугольная выноска 21"/>
          <p:cNvSpPr/>
          <p:nvPr/>
        </p:nvSpPr>
        <p:spPr>
          <a:xfrm>
            <a:off x="5715000" y="5786280"/>
            <a:ext cx="2673360" cy="827280"/>
          </a:xfrm>
          <a:prstGeom prst="wedgeRoundRectCallout">
            <a:avLst>
              <a:gd name="adj1" fmla="val -85944"/>
              <a:gd name="adj2" fmla="val -31935"/>
              <a:gd name="adj3" fmla="val 16667"/>
            </a:avLst>
          </a:prstGeom>
          <a:solidFill>
            <a:srgbClr val="4e67c8"/>
          </a:solidFill>
          <a:ln w="1908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нешкольная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Вывод</a:t>
            </a:r>
            <a:endParaRPr b="0" lang="en-US" sz="4000" spc="-1" strike="noStrike">
              <a:solidFill>
                <a:srgbClr val="b4dcfa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"/>
                <a:ea typeface="Microsoft JhengHei"/>
              </a:rPr>
              <a:t>Задачей современной системы образования становится освоение   учащимися не только конкретных предметных знаний и навыков в рамках отдельных дисциплин, но и совокупности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  <a:ea typeface="Microsoft JhengHei"/>
              </a:rPr>
              <a:t>универсальных учебных действий</a:t>
            </a:r>
            <a:r>
              <a:rPr b="0" lang="ru-RU" sz="2400" spc="-1" strike="noStrike">
                <a:solidFill>
                  <a:srgbClr val="ff0000"/>
                </a:solidFill>
                <a:latin typeface="Century"/>
                <a:ea typeface="Microsoft Jheng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903e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e00"/>
                </a:solidFill>
                <a:latin typeface="Century"/>
                <a:ea typeface="Microsoft JhengHei"/>
              </a:rPr>
              <a:t>УУД</a:t>
            </a:r>
            <a:r>
              <a:rPr b="0" lang="ru-RU" sz="2400" spc="-1" strike="noStrike">
                <a:solidFill>
                  <a:srgbClr val="903e00"/>
                </a:solidFill>
                <a:latin typeface="Century"/>
                <a:ea typeface="Microsoft JhengHei"/>
              </a:rPr>
              <a:t> должны быть положены в основу </a:t>
            </a:r>
            <a:r>
              <a:rPr b="1" lang="ru-RU" sz="2400" spc="-1" strike="noStrike">
                <a:solidFill>
                  <a:srgbClr val="903e00"/>
                </a:solidFill>
                <a:latin typeface="Century"/>
                <a:ea typeface="Microsoft JhengHei"/>
              </a:rPr>
              <a:t>выбора и структурирования содержания</a:t>
            </a:r>
            <a:r>
              <a:rPr b="0" lang="ru-RU" sz="2400" spc="-1" strike="noStrike">
                <a:solidFill>
                  <a:srgbClr val="903e00"/>
                </a:solidFill>
                <a:latin typeface="Century"/>
                <a:ea typeface="Microsoft JhengHei"/>
              </a:rPr>
              <a:t> образования, приемов, методов, форм обучения, а также построения целостного учебно-воспитательного процесса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  <a:ea typeface="Microsoft JhengHe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  <a:ea typeface="Microsoft JhengHei"/>
              </a:rPr>
              <a:t>Овладение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Microsoft JhengHei"/>
              </a:rPr>
              <a:t>УУД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  <a:ea typeface="Microsoft JhengHei"/>
              </a:rPr>
              <a:t> происходит в контексте разных учебных предметов и в конечном счете ведет к формированию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Microsoft JhengHei"/>
              </a:rPr>
              <a:t>способности самостоятельно успешно усваивать новые знания, умения и компетентности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  <a:ea typeface="Microsoft JhengHei"/>
              </a:rPr>
              <a:t>, включая самостоятельную организацию процесса усвоения, т. е.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Microsoft JhengHei"/>
              </a:rPr>
              <a:t>умение учиться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  <a:ea typeface="Microsoft JhengHe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Microsoft JhengHei"/>
              </a:rPr>
              <a:t>В этом смысле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Microsoft JhengHei"/>
              </a:rPr>
              <a:t>УУД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Microsoft JhengHe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Microsoft JhengHei"/>
              </a:rPr>
              <a:t>представляют собой и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Microsoft JhengHei"/>
              </a:rPr>
              <a:t> результат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Microsoft JhengHei"/>
              </a:rPr>
              <a:t>образовательного процесса, и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Microsoft JhengHei"/>
              </a:rPr>
              <a:t> условие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Microsoft JhengHei"/>
              </a:rPr>
              <a:t>усвоения знаний, умений и компетентностей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Microsoft JhengHe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01" name="Рисунок 1" descr=""/>
          <p:cNvPicPr/>
          <p:nvPr/>
        </p:nvPicPr>
        <p:blipFill>
          <a:blip r:embed="rId1"/>
          <a:stretch/>
        </p:blipFill>
        <p:spPr>
          <a:xfrm>
            <a:off x="365040" y="115920"/>
            <a:ext cx="16146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 flipV="1">
            <a:off x="0" y="-316800"/>
            <a:ext cx="8712360" cy="64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92720" y="134136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0" y="1309680"/>
            <a:ext cx="903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Constantia"/>
              </a:rPr>
              <a:t>Цель :      </a:t>
            </a:r>
            <a:r>
              <a:rPr b="1" lang="ru-RU" sz="4400" spc="-1" strike="noStrike">
                <a:solidFill>
                  <a:srgbClr val="3333ff"/>
                </a:solidFill>
                <a:latin typeface="Constantia"/>
              </a:rPr>
              <a:t>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Constantia"/>
              </a:rPr>
              <a:t>Повышение компетентности педагогов в освоении приемов педагогической техники для формирования УУД</a:t>
            </a:r>
            <a:r>
              <a:rPr b="0" lang="ru-RU" sz="4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1" lang="en-US" sz="4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468360" y="4905360"/>
            <a:ext cx="165564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938680" y="3960"/>
            <a:ext cx="345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"/>
                <a:ea typeface="Times New Roman"/>
              </a:rPr>
              <a:t>Русский язык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9280" y="1484280"/>
          <a:ext cx="8785440" cy="3535560"/>
        </p:xfrm>
        <a:graphic>
          <a:graphicData uri="http://schemas.openxmlformats.org/drawingml/2006/table">
            <a:tbl>
              <a:tblPr/>
              <a:tblGrid>
                <a:gridCol w="2016360"/>
                <a:gridCol w="1930320"/>
                <a:gridCol w="239076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Маша выделила в словах одни окончания, Алёша – другие. А как ты считаешь? С чьим мнением согласен ты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Соотнесите предметы и звуковые модели сл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В русском языке существуют омонимы слова ЛИСТ.  Подумайте, какой справочной литературой нужно воспользоваться  для выяснения значения слов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Как бы ты объяснил своему однокласснику, что такое родственные слова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56"/>
          <p:cNvSpPr/>
          <p:nvPr/>
        </p:nvSpPr>
        <p:spPr>
          <a:xfrm>
            <a:off x="0" y="46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205" name="Picture 2" descr="C:\Users\Alina\Desktop\0_6fad9_77e9f46d_XL.png"/>
          <p:cNvPicPr/>
          <p:nvPr/>
        </p:nvPicPr>
        <p:blipFill>
          <a:blip r:embed="rId1"/>
          <a:stretch/>
        </p:blipFill>
        <p:spPr>
          <a:xfrm>
            <a:off x="2184480" y="4676760"/>
            <a:ext cx="496548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86040" y="-1516320"/>
            <a:ext cx="453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entury"/>
                <a:ea typeface="Times New Roman"/>
              </a:rPr>
              <a:t>Окружающий мир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4000" y="1268280"/>
          <a:ext cx="8640720" cy="3780000"/>
        </p:xfrm>
        <a:graphic>
          <a:graphicData uri="http://schemas.openxmlformats.org/drawingml/2006/table">
            <a:tbl>
              <a:tblPr/>
              <a:tblGrid>
                <a:gridCol w="2085840"/>
                <a:gridCol w="1787400"/>
                <a:gridCol w="2384640"/>
                <a:gridCol w="238284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Изучив природные зоны России, подумай и ответь, где бы ты хотел жить и почему?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Из упомянутых в статье растений выбери группу травянистых растений,  которые никогда не цветут и не имеют семян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В какой природной зоне обитают белки? Подготовьте устный рассказ об  этой природной зоне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Обсудите в паре пути решения экологических проблем природной зоны степей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Picture 2" descr="C:\Users\Alina\Desktop\0_47683_82476e10_XL.png"/>
          <p:cNvPicPr/>
          <p:nvPr/>
        </p:nvPicPr>
        <p:blipFill>
          <a:blip r:embed="rId1"/>
          <a:stretch/>
        </p:blipFill>
        <p:spPr>
          <a:xfrm>
            <a:off x="1217520" y="4711680"/>
            <a:ext cx="6801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1979640" y="-1326600"/>
            <a:ext cx="56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entury"/>
                <a:ea typeface="Times New Roman"/>
              </a:rPr>
              <a:t>Литературное чтение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0920" y="1341360"/>
          <a:ext cx="8642160" cy="3214800"/>
        </p:xfrm>
        <a:graphic>
          <a:graphicData uri="http://schemas.openxmlformats.org/drawingml/2006/table">
            <a:tbl>
              <a:tblPr/>
              <a:tblGrid>
                <a:gridCol w="1944720"/>
                <a:gridCol w="2160360"/>
                <a:gridCol w="2160720"/>
                <a:gridCol w="2376360"/>
              </a:tblGrid>
              <a:tr h="1293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1489f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Как бы ты позвал Мышку, если бы ты  был Жучкой?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Как нужно было ухаживать за репкой?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Почему репка выросла большая – пребольшая?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Сочини продолжение сказки с друзьями.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2" descr="C:\Users\Alina\Desktop\1.png"/>
          <p:cNvPicPr/>
          <p:nvPr/>
        </p:nvPicPr>
        <p:blipFill>
          <a:blip r:embed="rId1"/>
          <a:stretch/>
        </p:blipFill>
        <p:spPr>
          <a:xfrm>
            <a:off x="2484360" y="4149720"/>
            <a:ext cx="3672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1338480" y="-668160"/>
            <a:ext cx="7005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entury"/>
                <a:ea typeface="Times New Roman"/>
              </a:rPr>
              <a:t>Изобразительное искусство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5280" y="1341360"/>
          <a:ext cx="8497800" cy="3070440"/>
        </p:xfrm>
        <a:graphic>
          <a:graphicData uri="http://schemas.openxmlformats.org/drawingml/2006/table">
            <a:tbl>
              <a:tblPr/>
              <a:tblGrid>
                <a:gridCol w="1873080"/>
                <a:gridCol w="1963800"/>
                <a:gridCol w="2140200"/>
                <a:gridCol w="2520720"/>
              </a:tblGrid>
              <a:tr h="1149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1489f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Какой цвет является твоим любимым и почему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В какой последовательности будет выполнен портрет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С помощью каких цветов получится наиболее выразительный зимний пейзаж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Определите критерии оценивания работы, обсудив их в групп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Рисунок 4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620892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973440" y="260280"/>
            <a:ext cx="8759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4dcfa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9933ff"/>
                </a:solidFill>
                <a:latin typeface="Georgia"/>
              </a:rPr>
              <a:t>Педагогические                      приёмы</a:t>
            </a:r>
            <a:endParaRPr b="0" lang="en-US" sz="3600" spc="-1" strike="noStrike">
              <a:solidFill>
                <a:srgbClr val="b4dcfa"/>
              </a:solidFill>
              <a:latin typeface="Georgi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95280" y="1814400"/>
          <a:ext cx="8362800" cy="4783320"/>
        </p:xfrm>
        <a:graphic>
          <a:graphicData uri="http://schemas.openxmlformats.org/drawingml/2006/table">
            <a:tbl>
              <a:tblPr/>
              <a:tblGrid>
                <a:gridCol w="1530360"/>
                <a:gridCol w="2787480"/>
                <a:gridCol w="40449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Приемы педагогической техни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Результаты развития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7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ичностные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Задание массивом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Выход за предел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Отсроченная реакция.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Лови ошибку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Театрализация.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Идеальное задание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Смыслообразование — установление учащимися связи между целью учебной деятельности и ее мотивом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Нравственно-этическая ориентация, в том числе и оценивание усваиваемого содержания. Самоопределение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Самоопределение, смыслообразование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Рисунок 3" descr=""/>
          <p:cNvPicPr/>
          <p:nvPr/>
        </p:nvPicPr>
        <p:blipFill>
          <a:blip r:embed="rId1"/>
          <a:stretch/>
        </p:blipFill>
        <p:spPr>
          <a:xfrm>
            <a:off x="6227640" y="85680"/>
            <a:ext cx="248472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250920" y="115920"/>
          <a:ext cx="8677080" cy="6591240"/>
        </p:xfrm>
        <a:graphic>
          <a:graphicData uri="http://schemas.openxmlformats.org/drawingml/2006/table">
            <a:tbl>
              <a:tblPr/>
              <a:tblGrid>
                <a:gridCol w="1603440"/>
                <a:gridCol w="2920680"/>
                <a:gridCol w="41529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Приемы педагогической техни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Результаты развития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468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Регулятивные</a:t>
                      </a:r>
                      <a:br>
                        <a:rPr sz="1600"/>
                      </a:b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. «</a:t>
                      </a: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Лист защиты»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Обсуждаем домашнее задани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Резюм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Вход в урок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Идеальный опрос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Отсроченная реакц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Вопрос к тексту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Лови ошибку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 Повторяем с контролем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Знакомьтесь с критериям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Показательный отв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Саморегуляция как способность к преодолению препятствий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Оценка — выделение и осознание учащимися того, что уже усвоено и что еще нужно усвоить, осознание качества и уровня усвоения. Прогнозирование, контроль, коррекция, оценка. Саморегуляция как способность к мобилизации сил, к волевому усилию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Контроль в форме сличения способа действия и его результата с заданным эталоном для обнаружения отклонений и отличий от эталона. Планирование, коррекция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82f53"/>
                          </a:solidFill>
                          <a:latin typeface="Times New Roman"/>
                        </a:rPr>
                        <a:t>Целеполагание как постановка учебной задачи на основе соотнесения того/что уже известно и усвоено учащимися, и того, что еще неизвестно. Контроль в форме сличения способа действия и его результата с заданным эталоном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Рисунок 2" descr=""/>
          <p:cNvPicPr/>
          <p:nvPr/>
        </p:nvPicPr>
        <p:blipFill>
          <a:blip r:embed="rId1"/>
          <a:stretch/>
        </p:blipFill>
        <p:spPr>
          <a:xfrm>
            <a:off x="252360" y="2841480"/>
            <a:ext cx="15289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0920" y="512640"/>
          <a:ext cx="8642160" cy="5851800"/>
        </p:xfrm>
        <a:graphic>
          <a:graphicData uri="http://schemas.openxmlformats.org/drawingml/2006/table">
            <a:tbl>
              <a:tblPr/>
              <a:tblGrid>
                <a:gridCol w="1584360"/>
                <a:gridCol w="2241360"/>
                <a:gridCol w="4816440"/>
              </a:tblGrid>
              <a:tr h="612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1489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1489f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Свои примеры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Удивляй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Фантастическая добавка. Пересечение тем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 Дай себе помочь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Повторяем с контролем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"Да" и "Нет“</a:t>
                      </a:r>
                      <a:r>
                        <a:rPr b="0" lang="en-US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говорите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Опрос "по цепочке"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 Опрос-итог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Тренировочная контрольная работа. </a:t>
                      </a:r>
                      <a:br>
                        <a:rPr sz="1800"/>
                      </a:br>
                      <a:r>
                        <a:rPr b="0" lang="ru-RU" sz="17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Блицконтрольная</a:t>
                      </a:r>
                      <a:endParaRPr b="1" lang="en-US" sz="17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Поиск и выделение необходимой информации; рефлексия способов и условий действия, контроль и оценка процесса и результатов деятельности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Самостоятельное создание алгоритмов деятельности при решении проблем творческого и поискового характера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Общеучебные универсальные действия — поиск и выделение необходимой информации, структурирование знани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Логические универсальные действия: построение логической цепи рассуждений; подведение под понятие, выведение следстви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Общеучебные универсальные действия (рефлексия способов и условий действия, контроль и оценка процесса и результатов деятельности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1584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260280"/>
          <a:ext cx="8578800" cy="4608720"/>
        </p:xfrm>
        <a:graphic>
          <a:graphicData uri="http://schemas.openxmlformats.org/drawingml/2006/table">
            <a:tbl>
              <a:tblPr/>
              <a:tblGrid>
                <a:gridCol w="2033280"/>
                <a:gridCol w="2395800"/>
                <a:gridCol w="4149720"/>
              </a:tblGrid>
              <a:tr h="129060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Приемы педагогической техни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Результаты развития УУ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812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Взаимоопрос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Организация работы в групп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"Да" и "Нет" говорите.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Советуйтесь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82f53"/>
                          </a:solidFill>
                          <a:latin typeface="Times New Roman"/>
                          <a:ea typeface="Times New Roman"/>
                        </a:rPr>
                        <a:t>Планирование учебного сотрудничества со сверстниками, постановка вопросов — инициативное сотрудничество в поиске и сборе информации, умение полно и точно выражать свои мысли. Планирование учебного сотрудничества с учителем, инициативное сотрудничество в поиске и сборе информац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826920" y="4005360"/>
            <a:ext cx="34578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2190600" y="990720"/>
            <a:ext cx="4762800" cy="50482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 flipV="1" rot="10800000">
            <a:off x="2916360" y="281520"/>
            <a:ext cx="33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  <a:ea typeface="Calibri"/>
              </a:rPr>
              <a:t>Методика  «Дерево»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2"/>
          <a:stretch/>
        </p:blipFill>
        <p:spPr>
          <a:xfrm>
            <a:off x="7199280" y="1816200"/>
            <a:ext cx="1944720" cy="27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581280" y="762120"/>
            <a:ext cx="510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4800" spc="-1" strike="noStrike">
                <a:solidFill>
                  <a:srgbClr val="ff0000"/>
                </a:solidFill>
                <a:latin typeface="Georgia"/>
              </a:rPr>
              <a:t>Формирование 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УУД </a:t>
            </a:r>
            <a:r>
              <a:rPr b="0" lang="ru-RU" sz="4800" spc="-1" strike="noStrike">
                <a:solidFill>
                  <a:srgbClr val="ff0000"/>
                </a:solidFill>
                <a:latin typeface="Georgia"/>
              </a:rPr>
              <a:t>– это надежный путь кардинального повышения качества образования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28" name="Picture 3" descr="j0343343[1]"/>
          <p:cNvPicPr/>
          <p:nvPr/>
        </p:nvPicPr>
        <p:blipFill>
          <a:blip r:embed="rId1"/>
          <a:stretch/>
        </p:blipFill>
        <p:spPr>
          <a:xfrm>
            <a:off x="228600" y="1600200"/>
            <a:ext cx="37767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684360" y="450864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042920" y="4508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55640" y="436572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492360" y="4437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6281640" y="530064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750960" y="735120"/>
            <a:ext cx="8280360" cy="52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Georgia"/>
              </a:rPr>
              <a:t>                        </a:t>
            </a:r>
            <a:r>
              <a:rPr b="1" lang="ru-RU" sz="3600" spc="-1" strike="noStrike">
                <a:solidFill>
                  <a:srgbClr val="cc00cc"/>
                </a:solidFill>
                <a:latin typeface="Georgia"/>
              </a:rPr>
              <a:t>Задачи:                                                                             </a:t>
            </a:r>
            <a:r>
              <a:rPr b="1" lang="ru-RU" sz="3200" spc="-1" strike="noStrike">
                <a:solidFill>
                  <a:srgbClr val="cc00cc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. Раскрытие и осмысление    понятия     «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универсальные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учебные действия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»                                      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. Рассмотрение видов УУД,                          их содержания, требований к результатам  сформированности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. Знакомство с приемами, помогающими формировать УУД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7164360" y="549360"/>
            <a:ext cx="21398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«Если человека постоянно приучать усваивать знания и умения в готовом виде, </a:t>
            </a:r>
            <a:br>
              <a:rPr sz="4000"/>
            </a:b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можно и притупить его  природные творческие способности – </a:t>
            </a:r>
            <a:br>
              <a:rPr sz="4000"/>
            </a:b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«разучить» думать самостоятельно»</a:t>
            </a:r>
            <a:br>
              <a:rPr sz="4000"/>
            </a:br>
            <a:r>
              <a:rPr b="0" lang="ru-RU" sz="4000" spc="-1" strike="noStrike">
                <a:solidFill>
                  <a:srgbClr val="b4dcfa"/>
                </a:solidFill>
                <a:latin typeface="Georgia"/>
              </a:rPr>
              <a:t>                            </a:t>
            </a:r>
            <a:r>
              <a:rPr b="0" i="1" lang="ru-RU" sz="4000" spc="-1" strike="noStrike">
                <a:solidFill>
                  <a:srgbClr val="821a08"/>
                </a:solidFill>
                <a:latin typeface="Georgia"/>
              </a:rPr>
              <a:t>А. Дистервег</a:t>
            </a:r>
            <a:br>
              <a:rPr sz="4000"/>
            </a:br>
            <a:r>
              <a:rPr b="0" lang="ru-RU" sz="4000" spc="-1" strike="noStrike">
                <a:solidFill>
                  <a:srgbClr val="b4dcfa"/>
                </a:solidFill>
                <a:latin typeface="Georgi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b4dcfa"/>
              </a:solidFill>
              <a:latin typeface="Georgia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458640" y="4797360"/>
            <a:ext cx="266400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801720" y="85572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пасибо за работу</a:t>
            </a: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1" lang="en-US" sz="6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232" name="Рисунок 1" descr=""/>
          <p:cNvPicPr/>
          <p:nvPr/>
        </p:nvPicPr>
        <p:blipFill>
          <a:blip r:embed="rId1"/>
          <a:stretch/>
        </p:blipFill>
        <p:spPr>
          <a:xfrm>
            <a:off x="1197000" y="2637000"/>
            <a:ext cx="709308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-20520" y="141300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mbria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Cambria"/>
              </a:rPr>
              <a:t>В чем состоит главная задача  школы?                                       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mbri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Формирование у каждого ребенка умения  учить</a:t>
            </a:r>
            <a:r>
              <a:rPr b="1" lang="ru-RU" sz="3600" spc="-1" strike="noStrike">
                <a:solidFill>
                  <a:srgbClr val="cc00cc"/>
                </a:solidFill>
                <a:latin typeface="Cambria"/>
              </a:rPr>
              <a:t>СЯ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   –                    учить </a:t>
            </a:r>
            <a:r>
              <a:rPr b="1" lang="ru-RU" sz="3600" spc="-1" strike="noStrike">
                <a:solidFill>
                  <a:srgbClr val="cc00cc"/>
                </a:solidFill>
                <a:latin typeface="Cambria"/>
              </a:rPr>
              <a:t>СЕБЯ.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1081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38988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"/>
          <p:cNvSpPr/>
          <p:nvPr/>
        </p:nvSpPr>
        <p:spPr>
          <a:xfrm>
            <a:off x="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971640" y="2565360"/>
            <a:ext cx="6696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216000" y="407880"/>
            <a:ext cx="871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4400" spc="-1" strike="noStrike">
                <a:solidFill>
                  <a:srgbClr val="cc00cc"/>
                </a:solidFill>
                <a:latin typeface="Constantia"/>
              </a:rPr>
              <a:t>Как достичь эту цель?                        </a:t>
            </a:r>
            <a:endParaRPr b="1" lang="en-US" sz="4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0" lang="ru-RU" sz="4400" spc="-1" strike="noStrike">
                <a:solidFill>
                  <a:srgbClr val="0000ff"/>
                </a:solidFill>
                <a:latin typeface="Constantia"/>
              </a:rPr>
              <a:t>Благодаря системе       формирования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универсальных  учебных   действий.</a:t>
            </a:r>
            <a:endParaRPr b="1" lang="en-US" sz="4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4030920" cy="2679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374508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9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6" name="WordArt 18"/>
          <p:cNvSpPr txBox="1"/>
          <p:nvPr/>
        </p:nvSpPr>
        <p:spPr>
          <a:xfrm>
            <a:off x="1042920" y="0"/>
            <a:ext cx="684072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Impact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Impact"/>
              <a:ea typeface="Impact"/>
            </a:endParaRPr>
          </a:p>
        </p:txBody>
      </p:sp>
      <p:pic>
        <p:nvPicPr>
          <p:cNvPr id="77" name="Picture 18" descr=""/>
          <p:cNvPicPr/>
          <p:nvPr/>
        </p:nvPicPr>
        <p:blipFill>
          <a:blip r:embed="rId1"/>
          <a:stretch/>
        </p:blipFill>
        <p:spPr>
          <a:xfrm>
            <a:off x="-9360" y="476280"/>
            <a:ext cx="922968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314280" y="1228680"/>
            <a:ext cx="403236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1" i="1" lang="ru-RU" sz="2400" spc="-1" strike="noStrike">
                <a:solidFill>
                  <a:srgbClr val="c3260c"/>
                </a:solidFill>
                <a:latin typeface="Arial"/>
                <a:ea typeface="Arial"/>
              </a:rPr>
              <a:t>в широком значении 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умение учиться,                    т.е. способность                 субъекта к  саморазвитию   и  самосовершенствованию путем сознательного    и активного присвоения нового социального опыта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4829040" y="1457280"/>
            <a:ext cx="390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3260c"/>
                </a:solidFill>
                <a:latin typeface="Arial"/>
                <a:ea typeface="Arial"/>
              </a:rPr>
              <a:t>  </a:t>
            </a:r>
            <a:r>
              <a:rPr b="1" i="1" lang="ru-RU" sz="2400" spc="-1" strike="noStrike">
                <a:solidFill>
                  <a:srgbClr val="c3260c"/>
                </a:solidFill>
                <a:latin typeface="Arial"/>
                <a:ea typeface="Arial"/>
              </a:rPr>
              <a:t>в узком значении </a:t>
            </a: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совокупность способов действия учащегося            (а также связанных с ними навыков учебной работы), обеспечивающих его способность к самостоятельному усвоению новых знаний                   и умений, включая организацию этого процесса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80" name="Рисунок 7" descr=""/>
          <p:cNvPicPr/>
          <p:nvPr/>
        </p:nvPicPr>
        <p:blipFill>
          <a:blip r:embed="rId2"/>
          <a:stretch/>
        </p:blipFill>
        <p:spPr>
          <a:xfrm>
            <a:off x="1042920" y="4361040"/>
            <a:ext cx="299556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32"/>
          <p:cNvSpPr/>
          <p:nvPr/>
        </p:nvSpPr>
        <p:spPr>
          <a:xfrm>
            <a:off x="4859280" y="2133720"/>
            <a:ext cx="1297080" cy="2590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2" name="Line 31"/>
          <p:cNvSpPr/>
          <p:nvPr/>
        </p:nvSpPr>
        <p:spPr>
          <a:xfrm flipH="1">
            <a:off x="2556000" y="2205000"/>
            <a:ext cx="1728720" cy="25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1476360" y="333360"/>
            <a:ext cx="6408720" cy="18511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Виды универсальных 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учебных действий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(Асмолов А.Г.)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324000" y="2781360"/>
            <a:ext cx="3457440" cy="14191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«Личностные» 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571680" y="4714920"/>
            <a:ext cx="3744720" cy="14191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ознавательные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действия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5076720" y="4724280"/>
            <a:ext cx="3743280" cy="1441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Коммуникативные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действия</a:t>
            </a:r>
            <a:endParaRPr b="1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7" name="AutoShape 28"/>
          <p:cNvSpPr/>
          <p:nvPr/>
        </p:nvSpPr>
        <p:spPr>
          <a:xfrm>
            <a:off x="5357880" y="2786040"/>
            <a:ext cx="3456000" cy="14191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Регулятивные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йствия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8" name="Line 29"/>
          <p:cNvSpPr/>
          <p:nvPr/>
        </p:nvSpPr>
        <p:spPr>
          <a:xfrm flipH="1">
            <a:off x="2268000" y="220500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5724360" y="2205000"/>
            <a:ext cx="1276560" cy="581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0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9B19-024E-4E4F-8AF2-B1B786982A0C}" type="slidenum">
              <a:rPr b="1" lang="ru-RU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4"/>
          <p:cNvGrpSpPr/>
          <p:nvPr/>
        </p:nvGrpSpPr>
        <p:grpSpPr>
          <a:xfrm>
            <a:off x="298440" y="749160"/>
            <a:ext cx="8564400" cy="5602320"/>
            <a:chOff x="298440" y="749160"/>
            <a:chExt cx="8564400" cy="5602320"/>
          </a:xfrm>
        </p:grpSpPr>
        <p:pic>
          <p:nvPicPr>
            <p:cNvPr id="9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98440" y="749160"/>
              <a:ext cx="856440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16080" y="768240"/>
              <a:ext cx="8534160" cy="55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Franklin Gothic Demi"/>
              </a:endParaRPr>
            </a:p>
          </p:txBody>
        </p:sp>
      </p:grpSp>
      <p:pic>
        <p:nvPicPr>
          <p:cNvPr id="94" name="Picture 10" descr="Рисунок1"/>
          <p:cNvPicPr/>
          <p:nvPr/>
        </p:nvPicPr>
        <p:blipFill>
          <a:blip r:embed="rId2"/>
          <a:stretch/>
        </p:blipFill>
        <p:spPr>
          <a:xfrm>
            <a:off x="8459640" y="6381720"/>
            <a:ext cx="47340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Line 12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442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0" y="574560"/>
            <a:ext cx="9144000" cy="46080"/>
          </a:xfrm>
          <a:prstGeom prst="line">
            <a:avLst/>
          </a:prstGeom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97" name="Picture 3" descr="p001"/>
          <p:cNvPicPr/>
          <p:nvPr/>
        </p:nvPicPr>
        <p:blipFill>
          <a:blip r:embed="rId3"/>
          <a:stretch/>
        </p:blipFill>
        <p:spPr>
          <a:xfrm>
            <a:off x="3048120" y="3719520"/>
            <a:ext cx="227484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Line 12"/>
          <p:cNvSpPr/>
          <p:nvPr/>
        </p:nvSpPr>
        <p:spPr>
          <a:xfrm flipV="1">
            <a:off x="2362320" y="5541840"/>
            <a:ext cx="571320" cy="4017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9" name="Line 15"/>
          <p:cNvSpPr/>
          <p:nvPr/>
        </p:nvSpPr>
        <p:spPr>
          <a:xfrm flipH="1" flipV="1">
            <a:off x="5638680" y="5551200"/>
            <a:ext cx="571680" cy="468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00" name="Line 12"/>
          <p:cNvSpPr/>
          <p:nvPr/>
        </p:nvSpPr>
        <p:spPr>
          <a:xfrm flipH="1" flipV="1">
            <a:off x="2438280" y="3170160"/>
            <a:ext cx="604800" cy="4478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552680" y="76320"/>
            <a:ext cx="6181560" cy="477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489f"/>
                </a:solidFill>
                <a:latin typeface="Arial"/>
              </a:rPr>
              <a:t>НОВЫЙ ОБРАЗОВАТЕЛЬНЫЙ РЕЗУЛЬТАТ  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4267080" y="5484960"/>
            <a:ext cx="0" cy="5349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0" y="3159000"/>
            <a:ext cx="2097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Умение оценивать свои и чужие поступки, стремление к созидательной деятельности </a:t>
            </a:r>
            <a:endParaRPr b="1" lang="en-US" sz="1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572000" y="1658880"/>
            <a:ext cx="24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мение добывать, преобразовывать и представлять информацию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6095880" y="3243240"/>
            <a:ext cx="254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Умение донести свою позицию, понять других, договориться, чтобы сделать что-то сообща</a:t>
            </a:r>
            <a:endParaRPr b="1" lang="en-US" sz="1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1835280" y="1544760"/>
            <a:ext cx="241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Arial"/>
              </a:rPr>
              <a:t>Умение организовывать свои дела: ставить цель, планировать, получать и оценивать результат </a:t>
            </a:r>
            <a:endParaRPr b="1" lang="en-US" sz="1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7" name="Picture 20" descr=""/>
          <p:cNvPicPr/>
          <p:nvPr/>
        </p:nvPicPr>
        <p:blipFill>
          <a:blip r:embed="rId4"/>
          <a:stretch/>
        </p:blipFill>
        <p:spPr>
          <a:xfrm>
            <a:off x="7294680" y="857160"/>
            <a:ext cx="114912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"/>
          <p:cNvPicPr/>
          <p:nvPr/>
        </p:nvPicPr>
        <p:blipFill>
          <a:blip r:embed="rId5"/>
          <a:stretch/>
        </p:blipFill>
        <p:spPr>
          <a:xfrm>
            <a:off x="303120" y="4844880"/>
            <a:ext cx="852480" cy="1122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"/>
          <p:cNvPicPr/>
          <p:nvPr/>
        </p:nvPicPr>
        <p:blipFill>
          <a:blip r:embed="rId6"/>
          <a:stretch/>
        </p:blipFill>
        <p:spPr>
          <a:xfrm>
            <a:off x="368280" y="1076400"/>
            <a:ext cx="723960" cy="825480"/>
          </a:xfrm>
          <a:prstGeom prst="rect">
            <a:avLst/>
          </a:prstGeom>
          <a:ln w="0">
            <a:noFill/>
          </a:ln>
        </p:spPr>
      </p:pic>
      <p:sp>
        <p:nvSpPr>
          <p:cNvPr id="110" name="Line 12"/>
          <p:cNvSpPr/>
          <p:nvPr/>
        </p:nvSpPr>
        <p:spPr>
          <a:xfrm flipH="1" flipV="1">
            <a:off x="3563640" y="2704680"/>
            <a:ext cx="353880" cy="74628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4819680" y="2832120"/>
            <a:ext cx="255600" cy="6681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2" name="Line 12"/>
          <p:cNvSpPr/>
          <p:nvPr/>
        </p:nvSpPr>
        <p:spPr>
          <a:xfrm flipV="1">
            <a:off x="5638680" y="3451320"/>
            <a:ext cx="444600" cy="333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3" name="Выноска со стрелкой вниз 26"/>
          <p:cNvSpPr/>
          <p:nvPr/>
        </p:nvSpPr>
        <p:spPr>
          <a:xfrm>
            <a:off x="250920" y="2617920"/>
            <a:ext cx="2017440" cy="476280"/>
          </a:xfrm>
          <a:prstGeom prst="downArrowCallout">
            <a:avLst>
              <a:gd name="adj1" fmla="val 24986"/>
              <a:gd name="adj2" fmla="val 25003"/>
              <a:gd name="adj3" fmla="val 25000"/>
              <a:gd name="adj4" fmla="val 64977"/>
            </a:avLst>
          </a:prstGeom>
          <a:solidFill>
            <a:srgbClr val="ffcc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ЛИЧНОСТНЫЕ </a:t>
            </a:r>
            <a:endParaRPr b="1" lang="en-US" sz="16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4" name="Выноска со стрелкой вниз 27"/>
          <p:cNvSpPr/>
          <p:nvPr/>
        </p:nvSpPr>
        <p:spPr>
          <a:xfrm>
            <a:off x="1947960" y="1098720"/>
            <a:ext cx="2200320" cy="414000"/>
          </a:xfrm>
          <a:prstGeom prst="downArrowCallout">
            <a:avLst>
              <a:gd name="adj1" fmla="val 25001"/>
              <a:gd name="adj2" fmla="val 25024"/>
              <a:gd name="adj3" fmla="val 25000"/>
              <a:gd name="adj4" fmla="val 64977"/>
            </a:avLst>
          </a:prstGeom>
          <a:solidFill>
            <a:srgbClr val="ffffcc"/>
          </a:solidFill>
          <a:ln w="28440">
            <a:solidFill>
              <a:srgbClr val="c32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Georgia"/>
              </a:rPr>
              <a:t>РЕГУЛЯТИВНЫЕ </a:t>
            </a:r>
            <a:endParaRPr b="1" lang="en-US" sz="16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5" name="Выноска со стрелкой вниз 28"/>
          <p:cNvSpPr/>
          <p:nvPr/>
        </p:nvSpPr>
        <p:spPr>
          <a:xfrm>
            <a:off x="4572000" y="1122480"/>
            <a:ext cx="2516040" cy="536400"/>
          </a:xfrm>
          <a:prstGeom prst="downArrowCallout">
            <a:avLst>
              <a:gd name="adj1" fmla="val 25019"/>
              <a:gd name="adj2" fmla="val 25017"/>
              <a:gd name="adj3" fmla="val 25000"/>
              <a:gd name="adj4" fmla="val 64977"/>
            </a:avLst>
          </a:prstGeom>
          <a:solidFill>
            <a:srgbClr val="ffe6d3"/>
          </a:solidFill>
          <a:ln w="28440">
            <a:solidFill>
              <a:srgbClr val="d2ea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ПОЗНАВАТЕЛЬНЫЕ </a:t>
            </a:r>
            <a:endParaRPr b="1" lang="en-US" sz="16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6" name="Выноска со стрелкой вниз 29"/>
          <p:cNvSpPr/>
          <p:nvPr/>
        </p:nvSpPr>
        <p:spPr>
          <a:xfrm>
            <a:off x="5867280" y="2705040"/>
            <a:ext cx="2828880" cy="465120"/>
          </a:xfrm>
          <a:prstGeom prst="downArrowCallout">
            <a:avLst>
              <a:gd name="adj1" fmla="val 25006"/>
              <a:gd name="adj2" fmla="val 25004"/>
              <a:gd name="adj3" fmla="val 25000"/>
              <a:gd name="adj4" fmla="val 75000"/>
            </a:avLst>
          </a:prstGeom>
          <a:solidFill>
            <a:srgbClr val="dcf7ba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Georgia"/>
              </a:rPr>
              <a:t>КОММУНИКАТИВНЫЕ </a:t>
            </a:r>
            <a:endParaRPr b="1" lang="en-US" sz="16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0" y="1985400"/>
            <a:ext cx="2843280" cy="1191600"/>
          </a:xfrm>
          <a:prstGeom prst="wedgeRectCallout">
            <a:avLst>
              <a:gd name="adj1" fmla="val 50379"/>
              <a:gd name="adj2" fmla="val 37435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действия 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смыслообразования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8" name="Freeform 3"/>
          <p:cNvSpPr/>
          <p:nvPr/>
        </p:nvSpPr>
        <p:spPr>
          <a:xfrm flipV="1" rot="967800">
            <a:off x="888840" y="3148560"/>
            <a:ext cx="1617840" cy="228744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314440" y="5257800"/>
            <a:ext cx="4104000" cy="1101600"/>
          </a:xfrm>
          <a:prstGeom prst="wedgeRectCallout">
            <a:avLst>
              <a:gd name="adj1" fmla="val -36652"/>
              <a:gd name="adj2" fmla="val -61458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Franklin Gothic Demi"/>
              </a:rPr>
              <a:t>действия 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Franklin Gothic Demi"/>
              </a:rPr>
              <a:t>нравственно-этического 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Franklin Gothic Demi"/>
              </a:rPr>
              <a:t>оценивания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0" name="Freeform 5"/>
          <p:cNvSpPr/>
          <p:nvPr/>
        </p:nvSpPr>
        <p:spPr>
          <a:xfrm flipV="1" rot="19231200">
            <a:off x="6178680" y="2931480"/>
            <a:ext cx="2311200" cy="2731680"/>
          </a:xfrm>
          <a:prstGeom prst="pie">
            <a:avLst/>
          </a:prstGeom>
          <a:solidFill>
            <a:srgbClr val="009900"/>
          </a:solid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1" name="AutoShape 6"/>
          <p:cNvSpPr/>
          <p:nvPr/>
        </p:nvSpPr>
        <p:spPr>
          <a:xfrm flipV="1">
            <a:off x="762120" y="114840"/>
            <a:ext cx="7619760" cy="112680"/>
          </a:xfrm>
          <a:prstGeom prst="cube">
            <a:avLst>
              <a:gd name="adj" fmla="val 10458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819520" y="1600200"/>
            <a:ext cx="3504960" cy="365760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834840 h 3657600"/>
              <a:gd name="textAreaBottom" fmla="*/ 2822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5ff95"/>
              </a:gs>
              <a:gs pos="100000">
                <a:srgbClr val="ffe0b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Demi"/>
              </a:rPr>
              <a:t>Личностные УУД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6438960" y="1934280"/>
            <a:ext cx="2517840" cy="642600"/>
          </a:xfrm>
          <a:prstGeom prst="wedgeRectCallout">
            <a:avLst>
              <a:gd name="adj1" fmla="val -67583"/>
              <a:gd name="adj2" fmla="val 18921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Действия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самоопределения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5:41:07Z</dcterms:created>
  <dc:creator>mmc</dc:creator>
  <dc:description/>
  <dc:language>en-US</dc:language>
  <cp:lastModifiedBy>Учитель</cp:lastModifiedBy>
  <dcterms:modified xsi:type="dcterms:W3CDTF">2024-11-27T01:14:58Z</dcterms:modified>
  <cp:revision>272</cp:revision>
  <dc:subject/>
  <dc:title>Слайд 1</dc:title>
</cp:coreProperties>
</file>